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3F4-DCE0-415E-9C8A-813DC315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BFE-63D0-4BD7-90FD-4DA2707D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84A38-4C86-4869-8560-9338BFD3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AB066-1D2C-4CB2-BCEE-D0C01E5E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D0420-3FEA-4A35-ACFD-3754722C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6CC99-BE1D-4759-AFE6-6523EB3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4DE20-E53F-44CF-A1DA-AF98A041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FC78D-A3A3-4D66-B137-726C1494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6A5BB-87E5-425D-B17F-8B28D65C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80D26-98DD-4E02-BD43-1DD7EAE2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DE56A-717C-44D7-A54C-0948E4A7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74367-8F77-4DEE-8A61-9E8AA554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1B9-BB14-4393-AF0E-312A0C61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A716D-0C42-4EB6-9083-8DCCF3F7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97D5A-CD7B-40C4-8213-1FA2AFEC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5DCEB-2CF4-4ADA-B22F-BB43814E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61F61-DF2E-4EAF-9E00-4F4556ED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C222B-8FB6-4D66-8A37-32EB174B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16392-3D96-4640-896E-40221681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62B11-2F66-445A-9634-7902012B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2AAAF-B350-47CF-8FB2-101A52EE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CE7CC-537C-4FF5-84B4-99AA3CE3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3383F-CA30-48BB-B0F1-6264804A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4D2-E087-4F12-9995-364ABA62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0DACA-C99A-4F0B-B447-EFCFA2E7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C4A8D-32E1-496A-A2B5-21DFE153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B2B4A-FD0B-4969-B0F5-135A7763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A01A2-A7CE-4742-ADE9-E21F8ECC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E86B6-9B25-473D-9C0D-0FE743AB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5B30E-8472-484F-85B9-156C3E34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E5927-99FB-4D06-A495-471D0FE9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0953-EBB9-42CD-ADC1-B96CC099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635FC-C5B8-426A-AB81-896830DC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BDDAE-7A5C-42B0-90C0-D5658460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697E-B8DD-4C00-B7F2-66EE7CB6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66000-BA59-48B5-A393-B50B8F6A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315CA-181D-44BA-93D7-3F0886E7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24DAC-89AF-4158-872C-1311EB8C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FFA46-794F-4ABA-A816-1956025B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B4EC0-C32A-4223-86E9-15A5A0CE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85B7F-AE28-476D-80DF-6A70FBB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DB6E8-BB58-4C64-B561-AB9EFA5A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67360-BC93-44ED-A4DB-4D97C027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DB307-5A39-484B-BF31-899DE804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78EDB-EB2B-4247-BA70-5406ECB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49A6-7C7E-4BA5-B88E-CC1B42CA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1D2D1-49C1-48A4-845A-85DBF62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5A196-8DA1-4FF3-B09E-E8FAE407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462BA-E530-42E5-9B2F-502B099D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A4D78-0D8A-4CD2-969C-2C77A3DE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6B23E-4107-4AAC-A892-5A7B31E0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4D93B-465F-4C1D-9A67-FFED3073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6399E-FA92-4DB5-8133-3DC35502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53703-41DD-4404-AB9C-22F74EC9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63BEB-1B0A-4E96-BFC6-920D877D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C46E7-5B02-4CC1-BFF8-4E2E49FE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5F98-7FDE-419D-B13D-D68DCE59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15469-20AC-44CD-9757-F50B6B79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ED1B8-250A-403E-B107-7B072A91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06868-578B-49FD-B722-33FCB2F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F117A-39A5-481D-930D-8592125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33C1A-98D9-42B1-AA41-799C95D5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6525E-87D4-4A35-9929-AE543044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33B11-E657-450E-8F06-9231BAAC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3EC23-819C-47E2-A0AF-EB9B2B2F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B121C-69DD-48E2-97B3-CAB255AA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DF9BD-DABD-4AB4-A259-462E8531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68E8-17A9-4AF9-B7B3-CACF41BE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B399F-3CD0-4F64-96FF-DF45CB59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5EC48-6C4B-45FB-8EA0-03146D01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8106F-17FA-45AD-84B0-FA360051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B8440-05C1-4E78-B62C-A465AE8E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676B8-05BA-4432-8809-0DBF3A80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DEEC7-C820-4E3E-B506-65611986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AB1C74-77E7-4B98-9D26-82E11CB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803DC-1043-4F1A-9526-4FB05BE6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E6992-87F6-4938-BDA7-4A72BDB7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0F56F-FE8E-4159-92B4-0EE685FF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9104-4299-439B-8509-81CF11C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0D11B-B827-4736-9D8D-E32FFB98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C5BA2D-D356-48B2-AEC9-5D547155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1F164-2FF2-4FE8-A12E-BD16343D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DFBC2-4128-42E2-BFB1-A429F355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13A6C-FB15-4C74-BA6B-5DA9A840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2EA02-4E8F-47D4-B356-16A3145A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1C699-CEDE-4BC9-BD6C-9118D63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E6190A-5716-4317-A974-778936E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00E62A-893D-4851-9498-540C2184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8E54A-5C25-403C-B74C-6FD4C685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EE78-57E8-4F47-B608-C85F3149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714ED7-8EA5-491F-8A80-01F61A04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E97DD-210F-4309-86B9-1AB6CFCF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EFF53-87E3-4B09-9D00-DB13C91C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2E4606-22D5-4117-B38C-7F7ED01B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85C5E-BB45-464C-ABFB-E213A41E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E024A-C948-4EA4-8124-221CFE7E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2F8E7-5BAE-4F7D-94B8-EFE01CBB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D00FD-41B7-4010-8CD5-385408B5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DFB16-E3F0-4BD2-A26E-8C04FA0A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C18A5-1678-40F6-8860-5B39297F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F850-CD30-4AAD-8FAD-DD06698A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3D4BA-29C1-4356-ABF8-6850D90F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B9953-F2DF-4212-9C8F-516D1E09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6F142-5E2D-4F2C-9FA1-A62EE39C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F2B6B-EF4F-4117-923A-0A843D3D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525C5-EA49-4304-A4DF-E79E56CE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B0030-6EEB-4BA3-9A62-BB05341A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DDCA9-C42C-4994-8D7D-FD2D4BBB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22682C-7720-42DE-B90C-29A8A5A6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71962-A217-498C-BB53-21904E72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187C4-8A40-4D88-9739-53094287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75E-6F7B-441B-B514-F03B3170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7CF3-BCF7-4DD6-9C5C-FBEF465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A005C-BFFE-4E19-979C-B77E57BC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06B5A-9752-4526-AD5F-3D5199F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E4F20-78E5-415F-A32D-283B61AC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48809-D966-4090-A586-08CDD489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D68C9-54CC-4B6B-A6AF-3B3C782E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F26F36-9905-428F-9B15-AE3AB099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54370-5829-4C9B-B37E-F8D3BF1C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BC8BC-CE6E-451C-A52B-A5F8F12A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F9486-CDEE-445E-B399-195FB2B5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7FF27F-E50F-4B85-90AB-D4653328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0E9B-407E-45C5-87AF-7A970EC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7C5EEB-414F-43E9-9B54-79B92524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B8671-4CB4-4AD9-A976-5B8FA03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163F3-E05D-426D-83DD-D2DCA579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A6C1D-17C4-4991-9DEB-6092065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4FD61-EADD-4B41-AE85-E45E5D29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37313-FD57-4355-81EA-A05D4A47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DB15F-B54B-4382-B4B8-1ACDA187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89547-6D5E-4133-B6D4-88A0BEDF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BADA0-34CA-454B-8DBE-6DE00B04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8B03E-E996-4C4B-9978-7D0C7527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630C-4D31-48B5-9DDD-0CB6B592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647339-59A0-4E61-BF0A-44010DA0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6F038-4196-4FFB-93CB-9DC8A23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09EBCF-B7C5-4FCF-8F7C-EE62E09F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B359D-3AE5-4B17-9F6F-4035E8C3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F1715-75CD-44EE-868E-FA16562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386787-D909-4ECA-A69C-5D10B000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53B38-AF24-426D-9884-612A7445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529086-04A6-4579-A04F-0B9340EC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29B57-85A7-45EF-923A-0C04D06B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5724C4-06A6-4750-BCA1-FE5D308C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9D70-AACF-47F4-A45F-390CE0AB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9F740-86F0-4ACE-BF65-41DCCA7A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8FFB3A-E046-4545-A179-428C7547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EBE45C-A2AF-45CE-A3EC-6E943E22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9A10E8-0548-4125-B80F-06D6DD32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7D5CE-DD6C-48F4-8F40-E6F8D314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E78CA8-920A-436F-893C-24E3A43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B3A98-9DD3-4B7F-AE8D-CBCC952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97783B-6C87-402F-9DA0-0F9D8998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35A8F-A571-4C96-AA29-A77012DF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43580-E7B6-497E-8B0A-5FECE358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8A24-CB7E-46EA-ABE2-CBEF26C2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D3251-4AA1-40A9-9BED-A12BE91E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8E9D5-D9B1-408D-9AE2-6E96AA78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249C3E-B4E0-4D50-BB8E-771F1202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5C9101-1133-43D5-9C92-A894F654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6C133D-E0E2-4A7B-95BC-C1DE53B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F08E9D-E7F8-48D4-9547-CEDB2470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BA4188-416F-47EE-B762-49EC0123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FF4BF9-B32D-4230-B2C5-4B68CF09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533882-3A56-4262-B3D0-B8DA24DB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54336-6B0D-424A-BBC2-E6283427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FB4C-3F03-4E18-9686-3387A65B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7A8CAC-7CAD-4B99-A779-D9D51670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2DC2A7-58DD-4028-B322-FB52DD2B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95C867-69B3-4761-9C2B-3732A034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13B4-89DA-4EDC-8C79-4B8AB587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F4BB-F31C-4BF1-8B1B-6BEE5275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89B17-0B5C-46BC-B8A6-E24098EA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780D-A1DF-4831-AE93-60E689DD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C53-1B0B-48E9-86A8-6C5320FF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712F-8ECE-44CC-9F92-8A9DD30B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320A-1508-49AF-9974-B531055B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1693-9E28-48F7-90CF-83A5675E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3FCE-36BB-4CC4-B008-9A3EDEB7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5D01-0571-424D-8524-A4C7DDED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D5A0-C959-4BC8-B8AE-DE9753A2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056A-3E40-496C-BF33-5CC06F97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1E92-F84D-4677-964E-D576F098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45306-3643-4FC0-96FD-401E7822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87532-F6AA-4EA9-885D-CE8B10E6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61E-E65D-4191-A93B-20094D4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FB85D-1F9F-46CF-BE08-A0E02800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CBC3E-93DD-487A-82C6-F4B2CC3A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4EF6-45A3-44B2-A5FA-01C2D668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628A0-B16D-4938-A885-5E3C6EBE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B40F-BD79-4B71-97D4-1EB7973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2CFC-7844-436F-BA14-B4C90F52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E1A22-F882-4999-9CE7-C5CD51F6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938F0-AD16-493E-B584-229EF74D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EE12-04CB-41BD-8653-7F0E7ED2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034A6-5194-45AE-B005-A55AFD5E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7AB-CDE9-4BBC-A86F-9D9910E8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DF9C8-6FBE-4122-9445-519C0B6F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E5F67-B365-4A98-ADBD-1BFBD976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B1539-7393-4A71-88EB-63B5A36C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86DB-3C93-438D-9C94-B6931E10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389E4-6A22-4C8B-BBB7-6C25D525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4F4E0-264C-4217-9C00-57E9FDD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E0C90-BE4A-4596-9461-E503986D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8D67-1606-4A4D-BB7E-4EEFBE1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386D-A2A7-42AF-BAC0-C14CAEDE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0669A-4CD2-483C-B160-7768D158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2DF-A552-4CF0-B17D-F82E4F14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3BE5A-8595-4615-8660-31043B9E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36FAB-0E50-4BF9-8DB1-347B0594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494D-1C70-493B-90C4-FB1F2134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F8427-CEA1-4202-A823-2399BBFA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A5ABF-11D3-4E64-9DA6-75E78267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2DA9D-7440-4D11-86EB-F4349A3D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4151E-9926-4326-8C2C-41AA0360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F17D4-8BFD-48F0-8512-3CD94EB0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C651-2422-42E7-A104-71FF840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6D5BD-ED3F-408F-86BB-1A6F4BEA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CD8-B5C1-4091-AF59-4CA66E20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FF8A5-DC56-47E5-8B0A-88364EE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ACAC-C70E-4194-A8F0-314373D0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B445-E142-41B0-9B93-65D83AB0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B1D60-D585-4324-8501-3DC30C39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E4EC-0C56-4EAA-943F-6C7E2E94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2DFB7-25C4-44F1-8E58-85914FF7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CF9EA-BE4C-4FCA-B049-3D6FB49C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B175F-57C0-4F84-8FE2-2CADC26E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89E58-4F82-4372-AD09-C200DD8A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F9835-1D85-492B-B8F6-EDA94D5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0AA-F21D-44F2-9B60-E0470F46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AECD1-18D4-4200-9DD7-098C42A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6A03D-736B-416F-927B-C1AD5EF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505E9-2DAC-4800-8B1F-64FF6D96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AC2E-1057-41AB-BD02-8014CFAB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BAF23-3D2B-4F54-A488-5FD3444A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48BDE-A2FE-46D9-844F-634330E1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8FB3A-AE99-499E-8ACB-4D2AC70C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91A47-005B-4931-82BC-7DA4D4EA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AAB20-08CF-4D2C-B8CD-864AA0EF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A87C0-59D0-459A-BDEC-2A014446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FD4-BFCB-46DB-928B-9EB8AC4B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8A920-ADA5-44D2-826D-2F7DCE33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90BE4-4621-40F7-8A88-8B70323C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A4196-D8EF-4C0F-8033-340594C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A816F-0165-4F57-A082-3DBB74D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51B36-07CF-49B4-91BB-1AA2B703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561A1-49B9-4D5B-8B89-27A59A26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F0A6F-7561-4B46-A39E-674B5A7E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B49F5-509B-4E5A-8E33-12EAB7E7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97843-0290-4F81-89F1-7D1A9B17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6F40A-CA30-4097-BA42-48B7CB2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5419-436D-48C7-AAA0-DD3E137334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EF3A-AC69-425E-884A-4DAA2EB853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B70-B046-49B6-9BEA-0FE2B09DAB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5FBE-F4BA-41AE-9DAF-CC5777651C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7649-8DDD-4826-8702-2BF350A309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C7E7-5736-41A9-B2C5-9D6CD74C2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14B7-8885-4552-9CB4-5E738C9127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F0F7-D44B-4D90-A64D-58470D692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49E2-1D92-4A70-AA8A-06A74A802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EBC-9957-433B-9E85-65CDD3291F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51EF-4D6F-4986-A3CB-FADBE08DF8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0290-2BBB-4138-BEA3-0FF6C2762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B732-BB73-47C5-ADC3-FC848A4ED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273C-37AC-4CD4-975F-397FFF8ED1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FA94-21C6-4BF6-A478-E3BE2B7E56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F08F-5A56-49C8-9B63-874CC5B14C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079-D9A8-444E-B810-7DA258ACD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D655-43CD-4DB2-B4C1-B72581853D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EBEB-F70A-4303-91E7-1F2FDBED87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9B22-AB24-4E66-9C32-531B6823E0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155A-6153-4159-B01D-453DB0707C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2F02-7022-4C35-B8E5-42BCE4D476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4974-F6B1-419E-8087-4BA0D509D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BA0D-3EA9-428F-9CF4-B9CA20DC5F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D1DF-6FBB-4B02-9652-B4060C4983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CCF6-26B1-464C-A6B4-364F4F1F94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FDC1-FE54-4F45-8DF4-8D80A78C5F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C138-D041-4B52-9F4E-574F7808D2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2189-8676-46EF-8E04-1D21EA65B0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92EB-4677-4F85-AC6B-7A4373F27E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09CE-5937-461E-8D21-473F10DA17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CE2A-BEB3-45F4-825F-DD117A71E1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8BD8-2526-4505-98BB-0DD9F9B4DC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FDBC-4F85-47F7-940E-D701FE15BD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6512-AC91-4F66-B443-3D579F62B6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0A82-311F-498F-9B1A-018DB7D932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2E35-D988-4CFD-A543-87D3731AA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DA79-6E9B-4F74-AB9E-75E1C4315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2ABD-7027-40DC-BD6B-BC25E19132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CE16-6816-44F5-94B4-2ECF6CE5A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87280" y="2549520"/>
            <a:ext cx="85327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52231" descr=""/>
          <p:cNvPicPr/>
          <p:nvPr/>
        </p:nvPicPr>
        <p:blipFill>
          <a:blip r:embed="rId1"/>
          <a:stretch/>
        </p:blipFill>
        <p:spPr>
          <a:xfrm>
            <a:off x="647640" y="2147760"/>
            <a:ext cx="7848720" cy="25624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2"/>
          <a:stretch/>
        </p:blipFill>
        <p:spPr>
          <a:xfrm>
            <a:off x="1332000" y="2779560"/>
            <a:ext cx="3600360" cy="506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3"/>
          <a:stretch/>
        </p:blipFill>
        <p:spPr>
          <a:xfrm>
            <a:off x="1258920" y="4091040"/>
            <a:ext cx="6408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24000" y="693720"/>
            <a:ext cx="8505720" cy="6048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08360" y="3863880"/>
            <a:ext cx="863640" cy="420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581960" y="3860640"/>
            <a:ext cx="863640" cy="420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708360" y="4927680"/>
            <a:ext cx="863640" cy="420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96360" y="4927680"/>
            <a:ext cx="863280" cy="420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708360" y="6006960"/>
            <a:ext cx="863640" cy="420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596360" y="6006960"/>
            <a:ext cx="8632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52320" y="1566720"/>
            <a:ext cx="7839360" cy="3724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276720" y="2463840"/>
            <a:ext cx="934920" cy="420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7221600" y="2463840"/>
            <a:ext cx="934920" cy="420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290760" y="3557520"/>
            <a:ext cx="935280" cy="420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7192800" y="3543480"/>
            <a:ext cx="935280" cy="420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3233880" y="4653000"/>
            <a:ext cx="1122120" cy="420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178760" y="4653000"/>
            <a:ext cx="100800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76801" descr=""/>
          <p:cNvPicPr/>
          <p:nvPr/>
        </p:nvPicPr>
        <p:blipFill>
          <a:blip r:embed="rId1"/>
          <a:stretch/>
        </p:blipFill>
        <p:spPr>
          <a:xfrm>
            <a:off x="324000" y="38160"/>
            <a:ext cx="8496000" cy="67816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863640" cy="420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5292720" y="2622600"/>
            <a:ext cx="1366920" cy="50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7164360" y="2651040"/>
            <a:ext cx="136692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3564000" y="3557520"/>
            <a:ext cx="863640" cy="420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5292720" y="3471840"/>
            <a:ext cx="136692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7164360" y="3500280"/>
            <a:ext cx="136692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3564000" y="4422600"/>
            <a:ext cx="863640" cy="420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5292720" y="4336920"/>
            <a:ext cx="1366920" cy="506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7164360" y="4365720"/>
            <a:ext cx="1366920" cy="506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3492360" y="5286240"/>
            <a:ext cx="863640" cy="420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5221440" y="5200560"/>
            <a:ext cx="136656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7093080" y="5229360"/>
            <a:ext cx="1366560" cy="5061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4"/>
          <a:stretch/>
        </p:blipFill>
        <p:spPr>
          <a:xfrm>
            <a:off x="3564000" y="6149880"/>
            <a:ext cx="863640" cy="420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5"/>
          <a:stretch/>
        </p:blipFill>
        <p:spPr>
          <a:xfrm>
            <a:off x="5292720" y="6064200"/>
            <a:ext cx="1366920" cy="506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6"/>
          <a:stretch/>
        </p:blipFill>
        <p:spPr>
          <a:xfrm>
            <a:off x="7164360" y="6093000"/>
            <a:ext cx="13669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8373" descr=""/>
          <p:cNvPicPr/>
          <p:nvPr/>
        </p:nvPicPr>
        <p:blipFill>
          <a:blip r:embed="rId1"/>
          <a:stretch/>
        </p:blipFill>
        <p:spPr>
          <a:xfrm>
            <a:off x="709560" y="811080"/>
            <a:ext cx="7724880" cy="5857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3059280" y="1643040"/>
            <a:ext cx="194436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5351400" y="2635200"/>
            <a:ext cx="503280" cy="506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1332000" y="3659040"/>
            <a:ext cx="936360" cy="506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2916360" y="4206960"/>
            <a:ext cx="936360" cy="506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2584440" y="5919840"/>
            <a:ext cx="936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7352" descr=""/>
          <p:cNvPicPr/>
          <p:nvPr/>
        </p:nvPicPr>
        <p:blipFill>
          <a:blip r:embed="rId1"/>
          <a:stretch/>
        </p:blipFill>
        <p:spPr>
          <a:xfrm>
            <a:off x="290520" y="1081080"/>
            <a:ext cx="8562960" cy="4695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7711920" y="184464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7812000" y="3213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7812000" y="452268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7885080" y="521496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6324" descr=""/>
          <p:cNvPicPr/>
          <p:nvPr/>
        </p:nvPicPr>
        <p:blipFill>
          <a:blip r:embed="rId1"/>
          <a:stretch/>
        </p:blipFill>
        <p:spPr>
          <a:xfrm>
            <a:off x="285840" y="895320"/>
            <a:ext cx="8572320" cy="5486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427640" y="25653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236000" y="25509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1403280" y="35877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4427640" y="35877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7093080" y="35877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332000" y="4653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4500720" y="46101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7236000" y="461016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1403280" y="566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4500720" y="566100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7048440" y="564660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5300" descr=""/>
          <p:cNvPicPr/>
          <p:nvPr/>
        </p:nvPicPr>
        <p:blipFill>
          <a:blip r:embed="rId1"/>
          <a:stretch/>
        </p:blipFill>
        <p:spPr>
          <a:xfrm>
            <a:off x="285840" y="861840"/>
            <a:ext cx="8572320" cy="5134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4356000" y="3687840"/>
            <a:ext cx="2952720" cy="50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4284720" y="4552920"/>
            <a:ext cx="2952720" cy="506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4356000" y="5402160"/>
            <a:ext cx="29527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54276" descr=""/>
          <p:cNvPicPr/>
          <p:nvPr/>
        </p:nvPicPr>
        <p:blipFill>
          <a:blip r:embed="rId1"/>
          <a:stretch/>
        </p:blipFill>
        <p:spPr>
          <a:xfrm>
            <a:off x="299880" y="1419120"/>
            <a:ext cx="8544240" cy="40197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2"/>
          <a:stretch/>
        </p:blipFill>
        <p:spPr>
          <a:xfrm>
            <a:off x="1547640" y="3514680"/>
            <a:ext cx="3816360" cy="5065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3"/>
          <a:stretch/>
        </p:blipFill>
        <p:spPr>
          <a:xfrm>
            <a:off x="1547640" y="4811760"/>
            <a:ext cx="3816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33:4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